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2A6-49B1-4788-A64E-A4DB084C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732-C3CD-4311-B64B-B4E8C05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81A-D2EB-4CD0-BBC2-3C587BC3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2E1-CB58-4091-91B5-5B60FBAB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CC5-C51E-4967-98DC-15F76DE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8BB-A8BB-46DB-8DB7-65F58A0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B3F-8823-4923-B0F7-BAF9DE63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6D4-536A-4EBA-B5D4-B9EFE4C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70C-B1C5-4941-AB1C-58363328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908-2508-4129-90A0-36A5F91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AB8-D253-4C02-B5F7-3268199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F54-2D80-4784-93F4-4BA60F2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7787-D6BD-46DA-A7FF-39F3F613B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06:55:35Z</dcterms:modified>
  <cp:revision>691</cp:revision>
  <dc:subject/>
  <dc:title>Слайд 1</dc:title>
</cp:coreProperties>
</file>