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402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Arial Narrow"/>
              </a:rPr>
              <a:t>Click to move the slide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9118D8-DD74-4F5D-ABCE-C28CED4C98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58714F-B636-4FEE-A547-FF1014072E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7F5AF6-8249-43AB-ADFD-78BA18D382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099E-C950-4FB0-9FF2-8D8AF41A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6061-4FD0-466A-890A-A31DDE33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154E-3F7A-4040-895D-75B75870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5F72-5448-489D-BE33-11E5091E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F3A2-B0F9-484E-B1C6-82FE52D3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C1B6-469A-4ADA-87D9-54369EC5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22A4-EBC8-45DA-A67A-E7B91B57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6DB1-BEAC-4B99-81E3-EE5840D4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52DA-A69A-4492-AFF3-CBA4B074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0706-1256-4EBC-A090-865EE2F7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4A4A-838E-482C-8377-98D6B98B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696-24A1-4C3B-9639-FADC81FA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7916-A4CA-42CD-B31C-5214E8C3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51B9-8E29-4731-91FF-DD74DC23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6840-57D9-43C1-A5A1-9EC9C6E1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3CD7-3AC3-4DCD-ADBF-B2E95BC0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B2E8-1C8A-4BF5-B9DA-F7CCD0C2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61A-D661-4576-A8C5-17C63193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BF0-E053-468B-BF9D-5DAEB8D1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FFC7-7BF8-43EA-A89C-1C566330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3DC5-AB5D-47BC-8549-ADE86199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A20-A36B-446A-9918-C39B9343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3F34-F9D8-4DBE-B21C-001CAB81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B973-1EFA-4515-A5DD-796FAECC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8D1E-16C9-4AC7-9C37-082A8478180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7D26A4B-378A-44F7-870C-9D1D2A93B5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30"/>
          </a:solidFill>
          <a:ln w="9360">
            <a:solidFill>
              <a:srgbClr val="00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17"/>
          <p:cNvSpPr/>
          <p:nvPr/>
        </p:nvSpPr>
        <p:spPr>
          <a:xfrm>
            <a:off x="0" y="455760"/>
            <a:ext cx="185760" cy="6402240"/>
          </a:xfrm>
          <a:prstGeom prst="pie">
            <a:avLst/>
          </a:pr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7" descr="Надпись Минфин"/>
          <p:cNvPicPr/>
          <p:nvPr/>
        </p:nvPicPr>
        <p:blipFill>
          <a:blip r:embed="rId2"/>
          <a:stretch/>
        </p:blipFill>
        <p:spPr>
          <a:xfrm>
            <a:off x="0" y="0"/>
            <a:ext cx="3552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28"/>
          <p:cNvGraphicFramePr/>
          <p:nvPr/>
        </p:nvGraphicFramePr>
        <p:xfrm>
          <a:off x="8737560" y="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7560" y="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29" descr="untitled1"/>
          <p:cNvPicPr/>
          <p:nvPr/>
        </p:nvPicPr>
        <p:blipFill>
          <a:blip r:embed="rId5"/>
          <a:stretch/>
        </p:blipFill>
        <p:spPr>
          <a:xfrm>
            <a:off x="7848720" y="0"/>
            <a:ext cx="86832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Freeform 31"/>
          <p:cNvSpPr/>
          <p:nvPr/>
        </p:nvSpPr>
        <p:spPr>
          <a:xfrm>
            <a:off x="-1440" y="457200"/>
            <a:ext cx="9144000" cy="196920"/>
          </a:xfrm>
          <a:prstGeom prst="pie">
            <a:avLst/>
          </a:pr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5F08-1AFC-47C6-B602-DC44E3D4F42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53400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2C041A9-2FD2-4D8C-860F-EB1568E818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116000" y="2133720"/>
            <a:ext cx="7272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Порядок формирования и финансового обеспечения государственных зад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Горячая линия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orum.iminfin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1" descr="MF_emblema [Converted]"/>
          <p:cNvPicPr/>
          <p:nvPr/>
        </p:nvPicPr>
        <p:blipFill>
          <a:blip r:embed="rId1"/>
          <a:stretch/>
        </p:blipFill>
        <p:spPr>
          <a:xfrm>
            <a:off x="785880" y="857160"/>
            <a:ext cx="879480" cy="108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3E06-19AF-4BFE-80DF-909FEB360E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9280" y="1125360"/>
            <a:ext cx="8964720" cy="2808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2055960"/>
            <a:ext cx="158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образования (ВУЗы, колледж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1773360"/>
            <a:ext cx="1944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здравохр-я (поликлиники, больницы, санатори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96360" y="1738440"/>
            <a:ext cx="1439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культуры (библиотеки, музе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7640" y="54900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185"/>
                </a:solidFill>
                <a:latin typeface="Arial Narrow"/>
              </a:rPr>
              <a:t>Изменение подходов к формированию перечней государственных услуг</a:t>
            </a:r>
            <a:r>
              <a:rPr b="0" lang="ru-RU" sz="2200" spc="-1" strike="noStrike">
                <a:solidFill>
                  <a:srgbClr val="514185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1341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В настоящее врем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84720" y="1268280"/>
            <a:ext cx="1079280" cy="368280"/>
          </a:xfrm>
          <a:prstGeom prst="rect">
            <a:avLst/>
          </a:prstGeom>
          <a:solidFill>
            <a:srgbClr val="eaeaea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И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1773360"/>
            <a:ext cx="1224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рофильные отраслевые ФГ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48000" y="2852640"/>
            <a:ext cx="1584360" cy="53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еречень услуг Минобрнау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35640" y="2746440"/>
            <a:ext cx="1657440" cy="750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еречень услуг Минздрав-соц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53440" y="2708280"/>
            <a:ext cx="1439640" cy="53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еречень услуг Минкульт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41418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Предлагае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2637000"/>
            <a:ext cx="2016000" cy="750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еречень услуг  вышестоящего министер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76720" y="1557360"/>
            <a:ext cx="1008000" cy="2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64000" y="1557360"/>
            <a:ext cx="2376720" cy="2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76720" y="1700280"/>
            <a:ext cx="432000" cy="287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140360" y="1700280"/>
            <a:ext cx="358560" cy="360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195280" y="2276640"/>
            <a:ext cx="431640" cy="36036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2492280"/>
            <a:ext cx="0" cy="216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44000" y="2421000"/>
            <a:ext cx="0" cy="216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4581360"/>
            <a:ext cx="22320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1125"/>
              </a:spcBef>
              <a:buClr>
                <a:srgbClr val="3333cc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Arial Narrow"/>
              </a:rPr>
              <a:t>Базовый (отраслевой) перечень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министерства в сфере регул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3860640"/>
            <a:ext cx="644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 Narrow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Ведомственный перечень ФОИ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Arial Narrow"/>
              </a:rPr>
              <a:t>(с правом дополнения и детализации базовых (отраслевых) перечней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40360" y="2637000"/>
            <a:ext cx="0" cy="2156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67280" y="5203800"/>
            <a:ext cx="158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образования (ВУЗы, колледж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5170320"/>
            <a:ext cx="2087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здравохр-я (поликлиники, больницы, санатори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24720" y="5097600"/>
            <a:ext cx="15112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культуры (библиотеки, музе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4556160"/>
            <a:ext cx="934920" cy="368280"/>
          </a:xfrm>
          <a:prstGeom prst="rect">
            <a:avLst/>
          </a:prstGeom>
          <a:solidFill>
            <a:srgbClr val="eaeaea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И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43280" y="5025960"/>
            <a:ext cx="1224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рофильные отраслевые ФГ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3640" y="6140520"/>
            <a:ext cx="5113440" cy="312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еречень услуг ФОИ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850920" y="4843440"/>
            <a:ext cx="1079640" cy="2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4843440"/>
            <a:ext cx="1944720" cy="217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51640" y="4987800"/>
            <a:ext cx="288720" cy="287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932360" y="4941720"/>
            <a:ext cx="287280" cy="333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16720" y="5851440"/>
            <a:ext cx="0" cy="216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01080" y="5853240"/>
            <a:ext cx="0" cy="2142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59280" y="5851440"/>
            <a:ext cx="0" cy="216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5851440"/>
            <a:ext cx="0" cy="216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4F74-E3E7-4F80-9332-E9F9CE8DBA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280" y="1125360"/>
            <a:ext cx="8964720" cy="1943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6160" y="549360"/>
            <a:ext cx="9198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185"/>
                </a:solidFill>
                <a:latin typeface="Arial Narrow"/>
              </a:rPr>
              <a:t>Изменение формата перечня госуслу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2205000"/>
          <a:ext cx="8424720" cy="676440"/>
        </p:xfrm>
        <a:graphic>
          <a:graphicData uri="http://schemas.openxmlformats.org/drawingml/2006/table">
            <a:tbl>
              <a:tblPr/>
              <a:tblGrid>
                <a:gridCol w="1474560"/>
                <a:gridCol w="1405080"/>
                <a:gridCol w="2057400"/>
                <a:gridCol w="1758960"/>
                <a:gridCol w="1728720"/>
              </a:tblGrid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именование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тегории потреб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еречень и единицы измерения показателей объ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сновные требования к качеству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еквизиты НПА, утверждающего адм.регла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0" y="1557360"/>
            <a:ext cx="91440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еречень утверждает отраслевое министерство для всех учреждений соотв. отра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 форм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3760920"/>
            <a:ext cx="309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инистерство</a:t>
            </a:r>
            <a:r>
              <a:rPr b="1" lang="ru-RU" sz="1800" spc="-1" strike="noStrike">
                <a:solidFill>
                  <a:srgbClr val="ff7c8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Arial Narrow"/>
              </a:rPr>
              <a:t>ОБЯЗАНО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утвердить в </a:t>
            </a:r>
            <a:r>
              <a:rPr b="0" lang="ru-RU" sz="1800" spc="-1" strike="noStrike">
                <a:solidFill>
                  <a:srgbClr val="3333cc"/>
                </a:solidFill>
                <a:latin typeface="Arial Narrow"/>
              </a:rPr>
              <a:t>базовом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переч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200" y="4552920"/>
          <a:ext cx="8866440" cy="809640"/>
        </p:xfrm>
        <a:graphic>
          <a:graphicData uri="http://schemas.openxmlformats.org/drawingml/2006/table">
            <a:tbl>
              <a:tblPr/>
              <a:tblGrid>
                <a:gridCol w="1378080"/>
                <a:gridCol w="1584360"/>
                <a:gridCol w="1800000"/>
                <a:gridCol w="2664000"/>
                <a:gridCol w="1440000"/>
              </a:tblGrid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именование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тегории потребител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еречень и единицы измерения показателей объе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сновные требования к качеству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именование ФГУ (групп ФГ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 rot="16200000">
            <a:off x="1585080" y="2913840"/>
            <a:ext cx="284400" cy="2952720"/>
          </a:xfrm>
          <a:custGeom>
            <a:avLst/>
            <a:gdLst>
              <a:gd name="textAreaLeft" fmla="*/ 0 w 284400"/>
              <a:gd name="textAreaRight" fmla="*/ 102600 w 28440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4920" y="3573360"/>
            <a:ext cx="33130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инистерство</a:t>
            </a:r>
            <a:r>
              <a:rPr b="1" lang="ru-RU" sz="1800" spc="-1" strike="noStrike">
                <a:solidFill>
                  <a:srgbClr val="336600"/>
                </a:solidFill>
                <a:latin typeface="Arial Narrow"/>
              </a:rPr>
              <a:t> ВПРАВЕ</a:t>
            </a:r>
            <a:r>
              <a:rPr b="0" lang="ru-RU" sz="1800" spc="-1" strike="noStrike">
                <a:solidFill>
                  <a:srgbClr val="336600"/>
                </a:solidFill>
                <a:latin typeface="Arial Narrow"/>
              </a:rPr>
              <a:t>  (в ряде случаев – обязано)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утвердить в </a:t>
            </a:r>
            <a:r>
              <a:rPr b="0" lang="ru-RU" sz="1800" spc="-1" strike="noStrike">
                <a:solidFill>
                  <a:srgbClr val="336600"/>
                </a:solidFill>
                <a:latin typeface="Arial Narrow"/>
              </a:rPr>
              <a:t>базовом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переч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6968160" y="3481920"/>
            <a:ext cx="284040" cy="4067280"/>
          </a:xfrm>
          <a:custGeom>
            <a:avLst/>
            <a:gdLst>
              <a:gd name="textAreaLeft" fmla="*/ 0 w 284040"/>
              <a:gd name="textAreaRight" fmla="*/ 102600 w 284040"/>
              <a:gd name="textAreaTop" fmla="*/ 105840 h 4067280"/>
              <a:gd name="textAreaBottom" fmla="*/ 3961440 h 40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4234"/>
                </a:lnTo>
                <a:cubicBezTo>
                  <a:pt x="10800" y="15134"/>
                  <a:pt x="16200" y="16034"/>
                  <a:pt x="21600" y="16034"/>
                </a:cubicBezTo>
                <a:cubicBezTo>
                  <a:pt x="16200" y="16034"/>
                  <a:pt x="10800" y="16934"/>
                  <a:pt x="10800" y="1783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16360" y="1147680"/>
            <a:ext cx="36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В   НАСТОЯЩЕЕ    ВРЕМ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3068640"/>
            <a:ext cx="74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РЕДЛАГАЕТСЯ (приложение 2 к проекту постановлени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5328360" y="2169000"/>
            <a:ext cx="287640" cy="4390920"/>
          </a:xfrm>
          <a:custGeom>
            <a:avLst/>
            <a:gdLst>
              <a:gd name="textAreaLeft" fmla="*/ 0 w 287640"/>
              <a:gd name="textAreaRight" fmla="*/ 103680 w 287640"/>
              <a:gd name="textAreaTop" fmla="*/ 114480 h 4390920"/>
              <a:gd name="textAreaBottom" fmla="*/ 4276440 h 43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3604"/>
                </a:lnTo>
                <a:cubicBezTo>
                  <a:pt x="10800" y="4504"/>
                  <a:pt x="16200" y="5404"/>
                  <a:pt x="21600" y="5404"/>
                </a:cubicBezTo>
                <a:cubicBezTo>
                  <a:pt x="16200" y="5404"/>
                  <a:pt x="10800" y="6304"/>
                  <a:pt x="10800" y="720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2557080" y="3211200"/>
            <a:ext cx="284040" cy="4608360"/>
          </a:xfrm>
          <a:custGeom>
            <a:avLst/>
            <a:gdLst>
              <a:gd name="textAreaLeft" fmla="*/ 0 w 284040"/>
              <a:gd name="textAreaRight" fmla="*/ 102600 w 284040"/>
              <a:gd name="textAreaTop" fmla="*/ 119880 h 4608360"/>
              <a:gd name="textAreaBottom" fmla="*/ 4488480 h 46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8000" y="5848200"/>
            <a:ext cx="446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ФОИВ </a:t>
            </a:r>
            <a:r>
              <a:rPr b="1" lang="ru-RU" sz="1800" spc="-1" strike="noStrike">
                <a:solidFill>
                  <a:srgbClr val="3333cc"/>
                </a:solidFill>
                <a:latin typeface="Arial Narrow"/>
              </a:rPr>
              <a:t>ОБЯЗАН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утвердить в ведомственном перечне (с правом дополнения и детализаци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16360" y="5848200"/>
            <a:ext cx="41036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ФОИВ </a:t>
            </a:r>
            <a:r>
              <a:rPr b="1" lang="ru-RU" sz="1800" spc="-1" strike="noStrike">
                <a:solidFill>
                  <a:srgbClr val="336600"/>
                </a:solidFill>
                <a:latin typeface="Arial Narrow"/>
              </a:rPr>
              <a:t>ВПРАВ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(в ряде случаев – обязано) утвердить в ведомственном перечне (с правом дополнения и детализаци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046F-6117-410D-880D-A88547A035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 Narrow"/>
              </a:rPr>
              <a:t>Требования к качеству госуслуги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1) Требования к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ОЦЕССУ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(технологии) оказания госуслуги (образовательные стандарты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ограммы, протоколы лечения, административные регламенты и т.д.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если утверждены нормативным правовым актом Правительства РФ или Министерства, указываются в базовом (отраслевом) и ведомственном перечне в обязательном порядке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сылка. ПРОБЛЕМА – скрытые нефинансируемые мандаты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если утверждены нормативным правовым актом ФОИВ (при наличии полномочий), указываются в ведомственном перечне госуслуг в обязательном порядке (ссылка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по решению Министерства и (или) ФОИВ в базовом и (или) ведомственном перечне могут указываться дополнительные требования (с приложением к перечню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2) Требования к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СЛОВИЯМ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оказания госуслуги (помещениям, оборудованию и т.д.) – аналогично (ПРОБЛЕМА – скрытые нефинансируемые мандаты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3) Показатели, используемые для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ЦЕНКИ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результатов оказания услуг (удовлетворенность потребителей, ЕГЭ и т.д.) – указываются по решению Министерства (в базовом перечне) и (или) ФОИВ (в ведомственном перечне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а основе подпрограмм по оказанию госуслуг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4E25-3A33-4E95-A10C-05DE814E55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49400" y="620640"/>
            <a:ext cx="8994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185"/>
                </a:solidFill>
                <a:latin typeface="Arial"/>
              </a:rPr>
              <a:t>Форма госзада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1268280"/>
            <a:ext cx="712944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чная форма устанавливается Правительством РФ </a:t>
            </a:r>
            <a:r>
              <a:rPr b="0" i="1" lang="ru-RU" sz="1800" spc="-1" strike="noStrike">
                <a:solidFill>
                  <a:srgbClr val="777777"/>
                </a:solidFill>
                <a:latin typeface="Arial"/>
              </a:rPr>
              <a:t>(может расширяться по решению ФОИ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формы задания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77777"/>
                </a:solidFill>
                <a:latin typeface="Arial"/>
              </a:rPr>
              <a:t>1) задание на оказание услуг, 2) задание на выполнение рабо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80000" y="2852640"/>
            <a:ext cx="7207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0920" y="2593800"/>
          <a:ext cx="8713800" cy="4150080"/>
        </p:xfrm>
        <a:graphic>
          <a:graphicData uri="http://schemas.openxmlformats.org/drawingml/2006/table">
            <a:tbl>
              <a:tblPr/>
              <a:tblGrid>
                <a:gridCol w="2808360"/>
                <a:gridCol w="5905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Раздел гос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Что планируется изменить/сохран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ыписка из Р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ключается (в соответствии с законом 83-ФЗ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пределение потреб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остав информации о потребителях в ГЗ упрощает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казатели качества и объ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охраняются, показатели качества делятся на 3 группы, вводятся минимальные требования к их утвержд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рядок оказания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прощается (сохраняются ссылки на НПА и требования к информированию потребителей, исключаются детальные требования к имуществу, кадра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рядок контроля и досрочного прекра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точняется формат таблиц в госзадании (количество представляемой информации сохраняетс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едельные цены (тариф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точняется формат таблиц (количество информации сохраняется) – платные услуги в рамках госздания не предоставляют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Требования к отчетности об исполнении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иводится форма отчета, расширенная по сравнению с действующим вариа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7020000" y="1557360"/>
            <a:ext cx="2016000" cy="647640"/>
          </a:xfrm>
          <a:prstGeom prst="wedgeRoundRectCallout">
            <a:avLst>
              <a:gd name="adj1" fmla="val -68976"/>
              <a:gd name="adj2" fmla="val -52939"/>
              <a:gd name="adj3" fmla="val 16667"/>
            </a:avLst>
          </a:prstGeom>
          <a:solidFill>
            <a:srgbClr val="ffff99"/>
          </a:solidFill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См. Приложения 1, 2 к Полож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D886-FB54-4994-81A1-77959D01EA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 Narrow"/>
              </a:rPr>
              <a:t>Показатели качества госуслуг, включаемые в госзадание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1487520"/>
            <a:ext cx="86486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облюдаются требования к </a:t>
            </a: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результату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оказания услуг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- указанные в ведомственном перечне госуслуг - обязательно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- дополнительные для данного ФГУ (вопрос к обсуждению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облюдаются требования к </a:t>
            </a: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процессу и условиям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оказания услуг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- указанные в ведомственном перечне госуслуг - обязательно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- дополнительные для данного ФГУ (вопрос к обсуждению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еречень показателей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 Narrow"/>
              </a:rPr>
              <a:t>(БЕЗ УСТАНОВЛЕНИЯ ИХ ЗНАЧЕНИЙ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, возможны формулировки «сохранение», «рост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нижение»), по которым будут оцениваться результаты оказания госулсуг (деятельность ФГУ)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олько указанные в ведомственном перечне (установление индивидуальных показателей оценки не допускается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B213-7563-4A24-87D5-78273AB3B9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 Narrow"/>
              </a:rPr>
              <a:t>Расчетно-нормативные затраты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1547640" y="1449360"/>
            <a:ext cx="6264360" cy="648000"/>
          </a:xfrm>
          <a:prstGeom prst="rect">
            <a:avLst/>
          </a:prstGeom>
          <a:noFill/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Методические рекомендации Минфина Росс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(Приказ 105н в новой редакци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2349360"/>
            <a:ext cx="835164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Arial"/>
              </a:rPr>
              <a:t>Общие принципы сохраняютс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Разделение затрат на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ние услуг (выполнение работ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 имущества в «спящем» режиме (30% от расходов, вопрос к обсуждению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3 способа определения нормативов на услуг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Возможность дифференциации норматив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D536-3781-4579-BF34-7EA4A6A647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4345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 Narrow"/>
              </a:rPr>
              <a:t>ФОРМУЛА РАСЧЕТА ЗАТРАТ НА 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Arial Narrow"/>
              </a:rPr>
              <a:t>ОКАЗАНИЕ ГОСУДАРСТВЕННОЙ УСЛУГИ</a:t>
            </a:r>
            <a:endParaRPr b="0" lang="en-US" sz="1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2575080" y="1344600"/>
            <a:ext cx="3671640" cy="865080"/>
          </a:xfrm>
          <a:prstGeom prst="flowChartAlternateProcess">
            <a:avLst/>
          </a:prstGeom>
          <a:solidFill>
            <a:srgbClr val="969696">
              <a:alpha val="40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Rectangle 3"/>
              <p:cNvSpPr txBox="1"/>
              <p:nvPr/>
            </p:nvSpPr>
            <p:spPr>
              <a:xfrm>
                <a:off x="2830680" y="1422360"/>
                <a:ext cx="3139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у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чр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∗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641520" y="2652840"/>
            <a:ext cx="850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очр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– норматив затрат на оказание единицы государственной услуги ФОИВ (ФБУ) на соответствующий финансовый г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ki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оличество единиц оказания одной государственной услуги в соответствующем финансовом год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4076640"/>
            <a:ext cx="8353440" cy="647640"/>
          </a:xfrm>
          <a:prstGeom prst="rect">
            <a:avLst/>
          </a:prstGeom>
          <a:solidFill>
            <a:srgbClr val="96969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Ы РАСЧЕТА НОРМАТИ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ТРАТ НА ОКАЗАНИЕ ЕДИНИЦЫ ГОСУДАРСТВЕННОЙ 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915840" y="4581000"/>
            <a:ext cx="7272000" cy="1080000"/>
            <a:chOff x="915840" y="4581000"/>
            <a:chExt cx="7272000" cy="1080000"/>
          </a:xfrm>
        </p:grpSpPr>
        <p:sp>
          <p:nvSpPr>
            <p:cNvPr id="224" name=""/>
            <p:cNvSpPr/>
            <p:nvPr/>
          </p:nvSpPr>
          <p:spPr>
            <a:xfrm>
              <a:off x="915840" y="5229000"/>
              <a:ext cx="2231640" cy="432000"/>
            </a:xfrm>
            <a:prstGeom prst="rect">
              <a:avLst/>
            </a:prstGeom>
            <a:solidFill>
              <a:srgbClr val="969696">
                <a:alpha val="4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нормативны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35840" y="5229000"/>
              <a:ext cx="2231640" cy="432000"/>
            </a:xfrm>
            <a:prstGeom prst="rect">
              <a:avLst/>
            </a:prstGeom>
            <a:solidFill>
              <a:srgbClr val="969696">
                <a:alpha val="4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структурны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56200" y="5229000"/>
              <a:ext cx="2231640" cy="432000"/>
            </a:xfrm>
            <a:prstGeom prst="rect">
              <a:avLst/>
            </a:prstGeom>
            <a:solidFill>
              <a:srgbClr val="969696">
                <a:alpha val="4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экспертны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7" name=""/>
            <p:cNvCxnSpPr/>
            <p:nvPr/>
          </p:nvCxnSpPr>
          <p:spPr>
            <a:xfrm>
              <a:off x="4235760" y="4725720"/>
              <a:ext cx="1080" cy="504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22" idx="2"/>
              <a:endCxn id="224" idx="0"/>
            </p:cNvCxnSpPr>
            <p:nvPr/>
          </p:nvCxnSpPr>
          <p:spPr>
            <a:xfrm rot="5400000">
              <a:off x="2731680" y="3725280"/>
              <a:ext cx="648360" cy="23598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22" idx="2"/>
              <a:endCxn id="226" idx="0"/>
            </p:cNvCxnSpPr>
            <p:nvPr/>
          </p:nvCxnSpPr>
          <p:spPr>
            <a:xfrm flipH="1" rot="16200000">
              <a:off x="5058720" y="3758040"/>
              <a:ext cx="648360" cy="22939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30" name=""/>
          <p:cNvSpPr/>
          <p:nvPr/>
        </p:nvSpPr>
        <p:spPr>
          <a:xfrm>
            <a:off x="1332000" y="5950080"/>
            <a:ext cx="9144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5950080"/>
            <a:ext cx="718920" cy="28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32000" y="6381720"/>
            <a:ext cx="718920" cy="287280"/>
          </a:xfrm>
          <a:prstGeom prst="rect">
            <a:avLst/>
          </a:prstGeom>
          <a:solidFill>
            <a:srgbClr val="8080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24360" y="6021360"/>
            <a:ext cx="718920" cy="287280"/>
          </a:xfrm>
          <a:prstGeom prst="rect">
            <a:avLst/>
          </a:prstGeom>
          <a:solidFill>
            <a:srgbClr val="8080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411280" y="6237360"/>
            <a:ext cx="136872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43640" y="6021360"/>
            <a:ext cx="719280" cy="287280"/>
          </a:xfrm>
          <a:prstGeom prst="rect">
            <a:avLst/>
          </a:prstGeom>
          <a:solidFill>
            <a:srgbClr val="8080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24360" y="6381720"/>
            <a:ext cx="718920" cy="287280"/>
          </a:xfrm>
          <a:prstGeom prst="rect">
            <a:avLst/>
          </a:prstGeom>
          <a:solidFill>
            <a:srgbClr val="8080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88000" y="6308640"/>
            <a:ext cx="136836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Номер слайда 4"/>
          <p:cNvSpPr/>
          <p:nvPr/>
        </p:nvSpPr>
        <p:spPr>
          <a:xfrm>
            <a:off x="6553080" y="6534000"/>
            <a:ext cx="2590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B45CA4A-F649-4EF6-9DBC-C718243018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F9FE-5F78-4E75-BE0E-FB075E240D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36240" y="336240"/>
            <a:ext cx="755028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Направления развития нормативов</a:t>
            </a:r>
            <a:endParaRPr b="0" lang="en-US" sz="20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2448000" y="1227240"/>
            <a:ext cx="4128840" cy="766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ТИВ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инансового обеспечения государственных зад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152280" y="3124080"/>
            <a:ext cx="1540080" cy="1187640"/>
          </a:xfrm>
          <a:prstGeom prst="rect">
            <a:avLst/>
          </a:prstGeom>
          <a:solidFill>
            <a:srgbClr val="c8d6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ндиви-ду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809720" y="3352680"/>
            <a:ext cx="1981080" cy="1187640"/>
          </a:xfrm>
          <a:prstGeom prst="rect">
            <a:avLst/>
          </a:prstGeom>
          <a:solidFill>
            <a:srgbClr val="c8d6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коэффициен-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3924360" y="3789360"/>
            <a:ext cx="1828800" cy="1187280"/>
          </a:xfrm>
          <a:prstGeom prst="rect">
            <a:avLst/>
          </a:prstGeom>
          <a:solidFill>
            <a:srgbClr val="c8d6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ти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5796000" y="4437000"/>
            <a:ext cx="1846080" cy="1187640"/>
          </a:xfrm>
          <a:prstGeom prst="rect">
            <a:avLst/>
          </a:prstGeom>
          <a:solidFill>
            <a:srgbClr val="c8d6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равоч-ные коэф-фици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7524720" y="4869000"/>
            <a:ext cx="1619280" cy="1187280"/>
          </a:xfrm>
          <a:prstGeom prst="rect">
            <a:avLst/>
          </a:prstGeom>
          <a:solidFill>
            <a:srgbClr val="c8d6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-му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AutoShape 9"/>
          <p:cNvCxnSpPr>
            <a:stCxn id="240" idx="1"/>
            <a:endCxn id="241" idx="0"/>
          </p:cNvCxnSpPr>
          <p:nvPr/>
        </p:nvCxnSpPr>
        <p:spPr>
          <a:xfrm flipV="1" rot="10800000">
            <a:off x="921600" y="1611000"/>
            <a:ext cx="1526400" cy="1513440"/>
          </a:xfrm>
          <a:prstGeom prst="bentConnector2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47" name="AutoShape 10"/>
          <p:cNvCxnSpPr>
            <a:stCxn id="240" idx="1"/>
            <a:endCxn id="242" idx="0"/>
          </p:cNvCxnSpPr>
          <p:nvPr/>
        </p:nvCxnSpPr>
        <p:spPr>
          <a:xfrm flipH="1" flipV="1" rot="10800000">
            <a:off x="2446920" y="1610280"/>
            <a:ext cx="353160" cy="1742040"/>
          </a:xfrm>
          <a:prstGeom prst="bentConnector4">
            <a:avLst>
              <a:gd name="adj1" fmla="val -64795"/>
              <a:gd name="adj2" fmla="val 60975"/>
            </a:avLst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48" name="AutoShape 11"/>
          <p:cNvCxnSpPr>
            <a:stCxn id="240" idx="2"/>
            <a:endCxn id="243" idx="0"/>
          </p:cNvCxnSpPr>
          <p:nvPr/>
        </p:nvCxnSpPr>
        <p:spPr>
          <a:xfrm flipH="1" rot="16200000">
            <a:off x="3778200" y="2728440"/>
            <a:ext cx="1796040" cy="326160"/>
          </a:xfrm>
          <a:prstGeom prst="bentConnector3">
            <a:avLst>
              <a:gd name="adj1" fmla="val 49939"/>
            </a:avLst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49" name="AutoShape 12"/>
          <p:cNvCxnSpPr>
            <a:stCxn id="240" idx="3"/>
            <a:endCxn id="244" idx="0"/>
          </p:cNvCxnSpPr>
          <p:nvPr/>
        </p:nvCxnSpPr>
        <p:spPr>
          <a:xfrm>
            <a:off x="6576480" y="1611000"/>
            <a:ext cx="143640" cy="2826360"/>
          </a:xfrm>
          <a:prstGeom prst="bentConnector2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50" name="AutoShape 13"/>
          <p:cNvCxnSpPr>
            <a:stCxn id="240" idx="3"/>
            <a:endCxn id="245" idx="0"/>
          </p:cNvCxnSpPr>
          <p:nvPr/>
        </p:nvCxnSpPr>
        <p:spPr>
          <a:xfrm>
            <a:off x="6576840" y="1611000"/>
            <a:ext cx="1758240" cy="3258360"/>
          </a:xfrm>
          <a:prstGeom prst="bentConnector2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51" name="AutoShape 14"/>
          <p:cNvCxnSpPr/>
          <p:nvPr/>
        </p:nvCxnSpPr>
        <p:spPr>
          <a:xfrm>
            <a:off x="1042920" y="4652640"/>
            <a:ext cx="6555600" cy="1585080"/>
          </a:xfrm>
          <a:prstGeom prst="straightConnector1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52" name="Text Box 15"/>
          <p:cNvSpPr/>
          <p:nvPr/>
        </p:nvSpPr>
        <p:spPr>
          <a:xfrm>
            <a:off x="2050920" y="551664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5CC3-A05A-445E-B474-C9901C63A0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732720" y="2349360"/>
            <a:ext cx="2232000" cy="1511280"/>
          </a:xfrm>
          <a:prstGeom prst="wedgeRoundRectCallout">
            <a:avLst>
              <a:gd name="adj1" fmla="val -199856"/>
              <a:gd name="adj2" fmla="val -32458"/>
              <a:gd name="adj3" fmla="val 16667"/>
            </a:avLst>
          </a:prstGeom>
          <a:solidFill>
            <a:srgbClr val="cc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 случаях, если иное не предусмотрено федеральным законодательств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Arial Narrow"/>
              </a:rPr>
              <a:t>Вопросы, урегулированные в Методических рекомендациях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60200" y="1487520"/>
            <a:ext cx="67881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Описание подходов к организации работы по составлению государственных заданий для казенных, бюджетных и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 Narrow"/>
              </a:rPr>
              <a:t>автономных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учреждений, в т.ч.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200" spc="-1" strike="noStrike">
                <a:solidFill>
                  <a:srgbClr val="b2b2b2"/>
                </a:solidFill>
                <a:latin typeface="Arial Narrow"/>
              </a:rPr>
              <a:t>составлению и утверждению перечней государственных услуг (работ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b2b2b2"/>
                </a:solidFill>
                <a:latin typeface="Arial Narrow"/>
              </a:rPr>
              <a:t>разработке и утверждению требований к качеству услуг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комендации по заполнению формы государственного задания (для услуг и работ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комендации по осуществлению контроля за выполнением государственного задания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"/>
          <p:cNvSpPr/>
          <p:nvPr/>
        </p:nvSpPr>
        <p:spPr>
          <a:xfrm>
            <a:off x="5940360" y="2421000"/>
            <a:ext cx="2952720" cy="1655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7098-1105-43E8-B616-8F94DCDD24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1760" y="856800"/>
            <a:ext cx="77245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14185"/>
                </a:solidFill>
                <a:latin typeface="Arial Narrow"/>
              </a:rPr>
              <a:t> </a:t>
            </a:r>
            <a:br>
              <a:rPr sz="3600"/>
            </a:br>
            <a:r>
              <a:rPr b="0" lang="ru-RU" sz="1700" spc="-1" strike="noStrike">
                <a:solidFill>
                  <a:srgbClr val="800000"/>
                </a:solidFill>
                <a:latin typeface="Arial Narrow"/>
                <a:ea typeface="Arial"/>
              </a:rPr>
              <a:t>Варианты утверждения перечня платных услуг</a:t>
            </a:r>
            <a:endParaRPr b="0" lang="en-US" sz="17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360360" y="2286000"/>
            <a:ext cx="8478720" cy="36435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1) учредитель формирует исчерпывающий перечень платных услуг для каждого подведомственного учрежд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2) учредитель формирует и утверждает единый исчерпывающий перечень платных услуг, а учреждение определяет какие услуги из данного перечня оно оказыва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3) учреждение формирует и утверждает перечень платных услуг по согласованию с учредител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4) учреждение самостоятельно  формирует и утверждает перечень платных услу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AEDC-5476-4970-A1D0-490C7B32C5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185"/>
                </a:solidFill>
                <a:latin typeface="Arial Narrow"/>
              </a:rPr>
              <a:t>Нормы законодательства РФ, регулирующие работу с </a:t>
            </a:r>
            <a:br>
              <a:rPr sz="2200"/>
            </a:br>
            <a:r>
              <a:rPr b="1" lang="ru-RU" sz="2200" spc="-1" strike="noStrike">
                <a:solidFill>
                  <a:srgbClr val="514185"/>
                </a:solidFill>
                <a:latin typeface="Arial Narrow"/>
              </a:rPr>
              <a:t>государственными (муниципальными) заданиями</a:t>
            </a:r>
            <a:endParaRPr b="0" lang="en-US" sz="22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ействующие нор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10160" y="1413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Новые нор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27664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юджетный кодекс РФ 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(ст.6, ст.69.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1844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юджетный кодекс РФ 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(ст.6, ст.69.2, 78.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256536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«Об автономных учреждениях» (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ст.4, ст.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350028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«О некоммерческих организациях» 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(ст.9.2, ст.3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2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«Об автономных учреждениях» 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(ст.4, ст.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0" y="4437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№83-ФЗ 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(ст.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81080" y="1413000"/>
            <a:ext cx="41054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7840" y="1863720"/>
            <a:ext cx="1440" cy="14940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2492280"/>
            <a:ext cx="21600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3357720"/>
            <a:ext cx="21600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1628640"/>
            <a:ext cx="0" cy="29527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2060640"/>
            <a:ext cx="21600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2708280"/>
            <a:ext cx="21600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3645000"/>
            <a:ext cx="21600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4581360"/>
            <a:ext cx="21600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5008680"/>
            <a:ext cx="5184720" cy="1838160"/>
          </a:xfrm>
          <a:prstGeom prst="rect">
            <a:avLst/>
          </a:prstGeom>
          <a:solidFill>
            <a:srgbClr val="eaeaea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9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Изменены: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 организаций, для которых составляется госзад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госзад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ия на включение в госзадание платных услуг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99DB-4002-42C2-AC81-30DA8CDED2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66720" y="30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14185"/>
                </a:solidFill>
                <a:latin typeface="Arial Narrow"/>
              </a:rPr>
              <a:t> </a:t>
            </a:r>
            <a:br>
              <a:rPr sz="3600"/>
            </a:br>
            <a:r>
              <a:rPr b="0" lang="ru-RU" sz="1700" spc="-1" strike="noStrike">
                <a:solidFill>
                  <a:srgbClr val="800000"/>
                </a:solidFill>
                <a:latin typeface="Arial Narrow"/>
                <a:ea typeface="Arial"/>
              </a:rPr>
              <a:t>Варианты утверждения цен (тарифов) на платные услуги</a:t>
            </a:r>
            <a:endParaRPr b="0" lang="en-US" sz="17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785880" y="2104920"/>
            <a:ext cx="7643880" cy="42375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1) учредитель утверждает состав затрат и цены (тарифы) по каждой платной услуге, оказываемой подведомственными бюджетными учреждениям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2) учредитель утверждает предельные цены (тарифы) на каждую платную услугу, оказываемую подведомственными бюджетными учреждениям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3) бюджетное учреждение утверждает цены на оказываемые им платные услуги по согласованию с учредителем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4) бюджетное учреждение самостоятельно утверждает цены на оказываемые им платные услуг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2399-4B11-4179-AF05-39B171A8ED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642960" y="1428840"/>
          <a:ext cx="7643880" cy="4513320"/>
        </p:xfrm>
        <a:graphic>
          <a:graphicData uri="http://schemas.openxmlformats.org/drawingml/2006/table">
            <a:tbl>
              <a:tblPr/>
              <a:tblGrid>
                <a:gridCol w="1528920"/>
                <a:gridCol w="1528560"/>
                <a:gridCol w="1528920"/>
                <a:gridCol w="1528560"/>
                <a:gridCol w="1528920"/>
              </a:tblGrid>
              <a:tr h="12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165d"/>
                          </a:solidFill>
                          <a:latin typeface="Arial Narrow"/>
                          <a:ea typeface="Arial"/>
                        </a:rPr>
                        <a:t>Переч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165d"/>
                          </a:solidFill>
                          <a:latin typeface="Arial Narrow"/>
                          <a:ea typeface="Arial"/>
                        </a:rPr>
                        <a:t>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дитель - для каждого учреж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ждение выбирает из перечня, утвержденного учреди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ждение по согласованию с учреди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ждение самостоя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дитель - состав затрат и це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800000"/>
                          </a:solidFill>
                          <a:latin typeface="Arial Narrow"/>
                          <a:ea typeface="Arial"/>
                        </a:rPr>
                        <a:t>Наиболее жесткий вариа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дитель  - предельные це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ждение по согласованию с учреди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ждение самостоя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800000"/>
                          </a:solidFill>
                          <a:latin typeface="Arial Narrow"/>
                          <a:ea typeface="Arial"/>
                        </a:rPr>
                        <a:t>Наименее жесткий вариа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62" name="Прямоугольный треугольник 16"/>
          <p:cNvSpPr/>
          <p:nvPr/>
        </p:nvSpPr>
        <p:spPr>
          <a:xfrm>
            <a:off x="642960" y="1428840"/>
            <a:ext cx="1500120" cy="1285920"/>
          </a:xfrm>
          <a:prstGeom prst="rtTriangle">
            <a:avLst/>
          </a:prstGeom>
          <a:solidFill>
            <a:srgbClr val="00ffc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5d"/>
                </a:solidFill>
                <a:latin typeface="Arial"/>
                <a:ea typeface="Arial"/>
              </a:rPr>
              <a:t>Це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Стрелка вправо 17"/>
          <p:cNvGrpSpPr/>
          <p:nvPr/>
        </p:nvGrpSpPr>
        <p:grpSpPr>
          <a:xfrm>
            <a:off x="2787480" y="2981160"/>
            <a:ext cx="4997160" cy="2791080"/>
            <a:chOff x="2787480" y="2981160"/>
            <a:chExt cx="4997160" cy="2791080"/>
          </a:xfrm>
        </p:grpSpPr>
        <p:pic>
          <p:nvPicPr>
            <p:cNvPr id="264" name="Стрелка вправо 17" descr=""/>
            <p:cNvPicPr/>
            <p:nvPr/>
          </p:nvPicPr>
          <p:blipFill>
            <a:blip r:embed="rId1"/>
            <a:stretch/>
          </p:blipFill>
          <p:spPr>
            <a:xfrm>
              <a:off x="2787480" y="2981160"/>
              <a:ext cx="4997160" cy="27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 rot="1425600">
              <a:off x="2712960" y="3997440"/>
              <a:ext cx="499536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TextBox 18"/>
          <p:cNvSpPr/>
          <p:nvPr/>
        </p:nvSpPr>
        <p:spPr>
          <a:xfrm>
            <a:off x="4212720" y="30002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19"/>
          <p:cNvSpPr/>
          <p:nvPr/>
        </p:nvSpPr>
        <p:spPr>
          <a:xfrm>
            <a:off x="7284600" y="30002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5712840" y="30002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21"/>
          <p:cNvSpPr/>
          <p:nvPr/>
        </p:nvSpPr>
        <p:spPr>
          <a:xfrm>
            <a:off x="4284000" y="385776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22"/>
          <p:cNvSpPr/>
          <p:nvPr/>
        </p:nvSpPr>
        <p:spPr>
          <a:xfrm>
            <a:off x="2640960" y="37861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23"/>
          <p:cNvSpPr/>
          <p:nvPr/>
        </p:nvSpPr>
        <p:spPr>
          <a:xfrm>
            <a:off x="2712600" y="46432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24"/>
          <p:cNvSpPr/>
          <p:nvPr/>
        </p:nvSpPr>
        <p:spPr>
          <a:xfrm>
            <a:off x="5784120" y="385776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5"/>
          <p:cNvSpPr/>
          <p:nvPr/>
        </p:nvSpPr>
        <p:spPr>
          <a:xfrm>
            <a:off x="4212720" y="4714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26"/>
          <p:cNvSpPr/>
          <p:nvPr/>
        </p:nvSpPr>
        <p:spPr>
          <a:xfrm>
            <a:off x="7355880" y="37861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27"/>
          <p:cNvSpPr/>
          <p:nvPr/>
        </p:nvSpPr>
        <p:spPr>
          <a:xfrm>
            <a:off x="5784120" y="46432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29"/>
          <p:cNvSpPr/>
          <p:nvPr/>
        </p:nvSpPr>
        <p:spPr>
          <a:xfrm>
            <a:off x="7284600" y="4714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30"/>
          <p:cNvSpPr/>
          <p:nvPr/>
        </p:nvSpPr>
        <p:spPr>
          <a:xfrm>
            <a:off x="5855760" y="55008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31"/>
          <p:cNvSpPr/>
          <p:nvPr/>
        </p:nvSpPr>
        <p:spPr>
          <a:xfrm>
            <a:off x="2640960" y="55008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32"/>
          <p:cNvSpPr/>
          <p:nvPr/>
        </p:nvSpPr>
        <p:spPr>
          <a:xfrm>
            <a:off x="4212720" y="55008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34"/>
          <p:cNvSpPr/>
          <p:nvPr/>
        </p:nvSpPr>
        <p:spPr>
          <a:xfrm>
            <a:off x="3212640" y="30718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35"/>
          <p:cNvSpPr/>
          <p:nvPr/>
        </p:nvSpPr>
        <p:spPr>
          <a:xfrm>
            <a:off x="7713000" y="56437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8E87-EE33-4BF2-A623-47369317EA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9040" y="6919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"/>
              </a:rPr>
              <a:t>Уточнение формы госзадания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1341360"/>
            <a:ext cx="8207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69.2 БК Р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(М)З должно содерж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2492280"/>
            <a:ext cx="1081080" cy="642600"/>
          </a:xfrm>
          <a:prstGeom prst="rect">
            <a:avLst/>
          </a:prstGeom>
          <a:solidFill>
            <a:srgbClr val="e7f5fd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ыписку из РР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2349360"/>
            <a:ext cx="2808360" cy="1465560"/>
          </a:xfrm>
          <a:prstGeom prst="rect">
            <a:avLst/>
          </a:prstGeom>
          <a:solidFill>
            <a:srgbClr val="e7f5fd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казатели, характеризующие состав, качество и (или) объем (содержание) оказываемых Г(М)У (выполняемых работ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2205000"/>
            <a:ext cx="2160720" cy="1573560"/>
          </a:xfrm>
          <a:prstGeom prst="rect">
            <a:avLst/>
          </a:prstGeom>
          <a:solidFill>
            <a:srgbClr val="e7f5fd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рядок контроля за исполнением Г(М)З, в том числе условия и порядок его досрочного прекращ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08720" y="1628640"/>
            <a:ext cx="1549440" cy="1191240"/>
          </a:xfrm>
          <a:prstGeom prst="rect">
            <a:avLst/>
          </a:prstGeom>
          <a:solidFill>
            <a:srgbClr val="e7f5fd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ребования к отчетности об исполнении Г(М)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4959360"/>
            <a:ext cx="2952720" cy="1465560"/>
          </a:xfrm>
          <a:prstGeom prst="rect">
            <a:avLst/>
          </a:prstGeom>
          <a:solidFill>
            <a:srgbClr val="ccccff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пределение категорий физических и (или) юридических лиц, являющихся потребителями соответствующих услу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5013360"/>
            <a:ext cx="1440000" cy="916920"/>
          </a:xfrm>
          <a:prstGeom prst="rect">
            <a:avLst/>
          </a:prstGeom>
          <a:solidFill>
            <a:srgbClr val="ccccff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рядок оказания услуг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92720" y="4437000"/>
            <a:ext cx="3529080" cy="1739880"/>
          </a:xfrm>
          <a:prstGeom prst="rect">
            <a:avLst/>
          </a:prstGeom>
          <a:solidFill>
            <a:srgbClr val="ccccff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едельные цены (тарифы) на оплату услуг либо порядок установления указанных цен (тарифов) </a:t>
            </a:r>
            <a:r>
              <a:rPr b="0" lang="ru-RU" sz="1800" spc="-1" strike="noStrike">
                <a:solidFill>
                  <a:srgbClr val="cc0000"/>
                </a:solidFill>
                <a:latin typeface="Arial Narrow"/>
              </a:rPr>
              <a:t>в случаях, установленных законодательством Р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 Narrow"/>
              </a:rPr>
              <a:t>( ПРОБЛЕМА)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407664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(М)З н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казание услуг такж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лжно содерж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2060640"/>
            <a:ext cx="0" cy="43164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2060640"/>
            <a:ext cx="0" cy="28872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1989000"/>
            <a:ext cx="2592360" cy="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1989000"/>
            <a:ext cx="0" cy="21780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1844640"/>
            <a:ext cx="4032000" cy="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4527720"/>
            <a:ext cx="0" cy="43164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11640" y="4437000"/>
            <a:ext cx="0" cy="57456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0" y="4221000"/>
            <a:ext cx="1512720" cy="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221000"/>
            <a:ext cx="0" cy="21600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2133720"/>
            <a:ext cx="1296720" cy="1295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23640" y="2133720"/>
            <a:ext cx="1223640" cy="1439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2852640"/>
            <a:ext cx="7207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F80A-56E4-4304-88F4-1BC479D741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"/>
              </a:rPr>
              <a:t>В государственное задание могут быть включены</a:t>
            </a:r>
            <a:r>
              <a:rPr b="1" lang="en-US" sz="2600" spc="-1" strike="noStrike">
                <a:solidFill>
                  <a:srgbClr val="514185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514185"/>
                </a:solidFill>
                <a:latin typeface="Arial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569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латные услуги, если в федеральном законе предусмотрена возможность оказания их за пла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ПОЛНИТЕЛЬ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 (по отношению к подразумеваемому, но четко не определенному «стандарту») платные услуги, если в федеральном законе предусмотрена такая возможность (указана для образования, здравоохранения, библиотек, архивов…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те платные услуги, возможность оказания которых в рамках государственного зада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ОСРЕДСТВЕН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усмотрена федеральным закон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на данный момент отсутствуют, нужно ли вносить изменения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F382-300E-44FA-B68A-1C5A15FFAB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14185"/>
                </a:solidFill>
                <a:latin typeface="Arial Narrow"/>
              </a:rPr>
              <a:t> </a:t>
            </a:r>
            <a:br>
              <a:rPr sz="3600"/>
            </a:br>
            <a:r>
              <a:rPr b="1" lang="ru-RU" sz="2400" spc="-1" strike="noStrike">
                <a:solidFill>
                  <a:srgbClr val="514185"/>
                </a:solidFill>
                <a:latin typeface="Arial"/>
              </a:rPr>
              <a:t>Примеры федеральных законов, предусматривающих возможность оказания любых платных услуг</a:t>
            </a:r>
            <a:endParaRPr b="0" lang="en-US" sz="2400" spc="-1" strike="noStrike">
              <a:solidFill>
                <a:srgbClr val="514185"/>
              </a:solidFill>
              <a:latin typeface="Arial Narrow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00040" y="2276640"/>
          <a:ext cx="8286840" cy="3600000"/>
        </p:xfrm>
        <a:graphic>
          <a:graphicData uri="http://schemas.openxmlformats.org/drawingml/2006/table">
            <a:tbl>
              <a:tblPr/>
              <a:tblGrid>
                <a:gridCol w="1712880"/>
                <a:gridCol w="657396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«Основы законодательства Российской Федерации 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культуре» (№3612-1, ст. 52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Цены (тарифы) на платные услуги и продукцию, включая цены на билеты, организации культуры устанавливают самостоятель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Социальное обслуживание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«Об основах социального обслуживания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в Российской Федерации»  (№ 195-ФЗ, ст. 15):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Социальное обслуживание осуществляется …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бесплатно и за плат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92D7-3AF6-4755-BB27-54AAF1F97F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357120" y="78588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14185"/>
                </a:solidFill>
                <a:latin typeface="Times New Roman"/>
              </a:rPr>
              <a:t> </a:t>
            </a:r>
            <a:br>
              <a:rPr sz="3600"/>
            </a:br>
            <a:r>
              <a:rPr b="1" lang="ru-RU" sz="2400" spc="-1" strike="noStrike">
                <a:solidFill>
                  <a:srgbClr val="514185"/>
                </a:solidFill>
                <a:latin typeface="Arial"/>
              </a:rPr>
              <a:t>Примеры федеральных законов, предусматривающие возможность оказания дополнительных платных услу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E60A-0ACC-499F-9320-1D9DBA717B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28760" y="1928880"/>
          <a:ext cx="8429400" cy="4403520"/>
        </p:xfrm>
        <a:graphic>
          <a:graphicData uri="http://schemas.openxmlformats.org/drawingml/2006/table">
            <a:tbl>
              <a:tblPr/>
              <a:tblGrid>
                <a:gridCol w="2071440"/>
                <a:gridCol w="635796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«Об образовании» (ст. 19, 41, 45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Государственное и муниципальное образователь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учреждения вправе оказывать … плат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ДОПОЛНИТЕЛЬНЫЕ образовательные услуг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Здравоохра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Основы законодательства об охране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граждан (ст. 20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  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Граждане имеют право на ДОПОЛНИТЕЛЬНЫЕ медицинские и иные услуги … за счет средств предприятий, учреждений и организаций, своих личных средств и иных источн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Библиотечное обслужи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«О библиотечном деле»  (№78-ФЗ, ст. 7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В общедоступных библиотеках граждане имеют право…пользоваться ДРУГИМИ видами услуг, в том числе платными, перечень которых определяется правилами пользования библиотек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Архивное де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«Об архивном деле»  (№ 125-ФЗ, ст. 26):</a:t>
                      </a:r>
                      <a:r>
                        <a:rPr b="0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…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архивы, музеи, библиотеки, а также государственные и муниципальные организации могут… оказывать пользователю архивными документами платные ИНФОРМАЦИОННЫЕ услуги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0087-EA87-44D9-BCDE-2DF85A80D0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 Narrow"/>
              </a:rPr>
              <a:t>Предложение</a:t>
            </a:r>
            <a:r>
              <a:rPr b="1" lang="en-US" sz="2600" spc="-1" strike="noStrike">
                <a:solidFill>
                  <a:srgbClr val="514185"/>
                </a:solidFill>
                <a:latin typeface="Arial Narrow"/>
              </a:rPr>
              <a:t>: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1920" y="1413000"/>
            <a:ext cx="8488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Е ВКЛЮЧАТЬ В ГОСУДАРСТВЕННОЕ ЗАДАНИЕ НИКАКИЕ ПЛАТНЫЕ УСЛУГИ И НЕ ВНОСИТЬ ИЗМЕНЕНИЯ В ЗАКОНЫ, ПОЗВОЛЯЮЩИЕ ЭТО ДЕЛАТ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аждая платная услуга –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тдельная услуга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в том числе четко отделенная от основной (оказываемой в рамках госзадания) услуги (включая более комфортные условия их оказания, дополнительные расходные материалы, более высокая квалификация персонала и т.д.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ля учреждений культуры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едметом госзадания (услугой) являются результаты деятельности учреждения (постановки, экспозиции, экскурсии, сохранность и доступность фондов и т.д.), а число посетителей – лишь один из показателей их качества (не планируется)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8D38-D19C-44D5-9DB8-6D7EC95856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185"/>
                </a:solidFill>
                <a:latin typeface="Arial Narrow"/>
              </a:rPr>
              <a:t>Полномочия по регулированию порядка формирования и финансового обеспечения госзадания (на федеральном уровне)</a:t>
            </a:r>
            <a:endParaRPr b="0" lang="en-US" sz="22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755640" y="1484280"/>
            <a:ext cx="395928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тельство Р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пределение порядка формирования и финансового обеспечения (общие требования) – постановления № 1065 от 29.12.2008 (новая редакция) и № 182 от 18.03.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фин и Минэконом-развит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етодрекомендации по расчету нормативных затрат (приказы 105н от 22.10.2009 и 134 от 17.04.2009 (с учетом поправок)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фин и Минэконом-развит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етодрекомендации по формированию и финансовому обеспечению госзаданий (совместный приказ, нов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64000" y="2781360"/>
            <a:ext cx="352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Министерства – базовые (отраслевые) перечни госуслу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ФОИВ -  ведомственные перечни госуслуг, порядок формирования и финан-сового обеспечения госзаданий, утверждение госзаданий, контр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2205000"/>
            <a:ext cx="433440" cy="4319640"/>
          </a:xfrm>
          <a:custGeom>
            <a:avLst/>
            <a:gdLst>
              <a:gd name="textAreaLeft" fmla="*/ 0 w 433440"/>
              <a:gd name="textAreaRight" fmla="*/ 156600 w 43344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1D62-D1F8-4850-BE25-E9C0197329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 Narrow"/>
              </a:rPr>
              <a:t>Организация работы с госзаданием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1484280"/>
            <a:ext cx="8569080" cy="49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тверждение (уточнение) базового (отраслевого) перечня госуслуг – Министерства в сферах ведения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ФОИВ для подведомственных госучреждений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а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очняет) ведомственный перечень госуслуг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ает (уточняет) порядок определения расчетно-нормативных затра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ает требования к качеству госуслуг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ает порядок формирования и финансового обеспечения госзаданий (может включать пункты 2 и 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ает порядок осуществления контроля за выполнением госзадания (может быть объединен с пунктом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ует и утверждает госзадания, рассчитывает (в пределах бюджетных ассигнований) субсид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числяет в установленном порядке субсидии (в рамках кассового план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уществляет контроль за исполнением госзаданий (в т.ч. проводит проверку отчетност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7B70-D495-4233-90AD-4B436E33F2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3:42:30Z</dcterms:created>
  <dc:creator>Efimov I.L.</dc:creator>
  <dc:description/>
  <dc:language>en-US</dc:language>
  <cp:lastModifiedBy>user</cp:lastModifiedBy>
  <cp:lastPrinted>2009-06-02T16:42:35Z</cp:lastPrinted>
  <dcterms:modified xsi:type="dcterms:W3CDTF">2010-06-23T19:12:24Z</dcterms:modified>
  <cp:revision>985</cp:revision>
  <dc:subject/>
  <dc:title>No Slide Title</dc:title>
</cp:coreProperties>
</file>