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7049D-8BF4-46E0-BF42-5B86CD76E4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952F0-A677-4E97-AAC0-063C8F5F13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383A8-DF83-46BB-A4A3-E389124907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40F-F11B-470B-B084-94903F85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F3B-9AF2-4792-B0BA-7C4E604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E40-D0B0-4549-B70F-C836C2E3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D72-C0A7-49A5-AEAA-84AEAB14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25DC-0AB9-44F9-9CED-59483D91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1D46-FFAE-42CF-B132-5156751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71E7-4EF2-435D-8954-AC4E1AAE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904-8F7B-4F0F-BC4E-8895F48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40C-4F91-4A36-BE23-F29B5E5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B6E3-B04E-49D9-B3DA-DFEDCEB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538F-656F-4B34-A893-DE25767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EFB-2063-476D-A864-ABF3A8FB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771B-8115-4291-AF73-86C8C32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B0FA-547B-4BC4-B641-F47F87B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A46E-7DF0-4D4E-B914-FF3E32D6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1870-1B8F-4642-9DB6-17D8AAC9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D7C-3A83-4714-9A7B-338719F5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EF0-A143-4E9D-84D9-A803704F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2DC-8861-4266-AEED-0DC99598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754-ED91-4984-A9E4-5DF4F2CA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818-60BA-4C3C-99EB-0DC2137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3BA-ED42-469F-A281-138AF4B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BA8-6473-4EB8-AFE3-97235B5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E5F-DE1C-4725-A7A3-36C6930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0B91-AEC7-443F-95B4-E18258FC37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C659493-5B7F-4BC4-A14E-43D5AEE8B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11E-EEB2-4354-A6BA-27864309DBE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6EB8455-1BF5-4E10-848F-1C743BD732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352960"/>
            <a:ext cx="8280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</a:rPr>
              <a:t>О Порядке санкционирования расходов федеральных  государственных учреждений, источником финансового обеспечения которых являются субсидии, полученные в соответствии с абзацем вторым пункта 1 статьи 78.1 Бюджетного кодекса Российской Федераци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6900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ладчик: Саакян Т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бюджетной политики и метод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847F-6A90-464C-A8C8-C963F42462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15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м законом № 83-ФЗ от 08.05.2010 г. выделено три типа государственных учреждений: автономные, бюджетные и казенные. 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8324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в отношении государственного учреждения, созданного Российской Федерацией, в случае, если иное не установлено федеральными законами, нормативными правовыми актами Президента Российской Федерации или Правительства Российской Федерации, осуществляются соответственно уполномоченным федеральным органом исполнительной власти. Таким образом, необходимо систематизировать и регламентировать деятельность федеральных органов исполнительной власти по осуществлению ими функций и полномочий учредителей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автоном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каз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государственных учреждений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5B0-AE4C-47EF-8868-4BA65D46D7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86583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настоящее время действует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, которое нуждается в изменениях в связи с принятием Федерального закона № 83-ФЗ от 08.05.2010 г. </a:t>
            </a:r>
            <a:br>
              <a:rPr sz="20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3357720"/>
            <a:ext cx="85312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Аналогичные документы по осуществлению федеральными органами исполнительной власти функций и полномочий учредителя бюджетных и казенных учреждений отсутствую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тоже время действует большое количество отсылочных и перекрестных норм, закрепленных в различных нормативных ак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Это значительно осложняет правоприменительную практи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5E1-74EA-44E8-B836-102A6370D8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оссийской Федерации «Об утверждении Положений об осуществлении федеральными органами исполнительной власти функций и полномочий учредителя федерального учреждения» содержит три приложения, в которых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324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бюджет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казен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носятся изменения в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6F5E-4F8A-4274-BC0A-833BBE318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28760" y="999720"/>
            <a:ext cx="8324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проекте также предлагается федеральным органам исполнительной власти, не позднее 1 октября 2010 г. разработать и утвердить 8 различных порядков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я федеральным органом исполнительной власти функций и полномочий учредителя. Данные порядки необходимы для осуществления федеральными органами исполнительной власти функций и полномочий учредителя федерального государствен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енно часть функций и полномочий учредителя федерального государственного учреждения будет осуществляться по порядкам, утвержденным Правительством Российской Федерации, а часть по порядкам, утвержденным федеральными органами исполнительной в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AE9E-5781-49E9-9F07-56B7FBF6D2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Правительством Российской Федерац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47840" y="1857240"/>
            <a:ext cx="8324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федерального бюджетного учреждения при его создании, реорганизации, изменении типа, ликвидаци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тверждение устава федерального бюджетного учреждения, а также вносимые в него измен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и утверждение государственного задания на оказание государственных услуг (выполнение работ) юридическим и физическим лицам в соответствии с предусмотренными уставом федерального бюджетного учреждения основными видами деятель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еречня особо ценного движимого имущества, закрепленного за федеральным бюджетным учреждением учредителем или приобретенного бюджетным учреждением за счет средств, выделенных ему учредителем на приобретение такого имущества, а также внесение в него изменений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е финансовое обеспечение выполнения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4439-9E28-47B1-B687-967601C28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029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федеральными органами исполнительной власт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7840" y="2071440"/>
            <a:ext cx="83246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едварительное согласование совершения федеральным бюджетным учреждением крупных сделок, соответствующих критериям, установленным в пункте 13 статьи 9.2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инятие решения об одобрении действий, в том числе сделок с участием  федерального бюджетного учреждения, в совершении которых имеется заинтересованность, определяемая в соответствии с критериями, установленными в статье 27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особо ценным движимым имуществом, закрепленным за федеральным бюджетным учреждением учредителем либо приобретенным федеральным бюджетным учреждением за счет средств, выделенных его учредителем на приобретение так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BBF1-91AA-4118-AD9B-E655236A0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57120" y="642600"/>
            <a:ext cx="84153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недвижимым имуществом федерального бюджетного учреждения, в том числе передачу в аренду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внесения федеральным бюджетным учреждением, в случаях и порядке, предусмотренных федеральными законами, денежных средств (если иное не установлено условиями их предоставления), иного имущества за исключением особо ценного движимого имущества, а также недвижимого имущества, в уставный (складочный) капитал хозяйственных обществ или иным образом передачу им это имущество в качестве их учредителя или участник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передачи некоммерческим организациям в качестве их учредителя или участника денежных средств (если иное не установлено условиями их предоставления) и иного имущества, за исключением особо ценного движимого имущества, закрепленного за ним собственником или приобретенного бюджетным учреждением за счет средств, выделенных ему собственником на приобретение такого имущества, а также недвижим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редельно допустимого значения просроченной кредиторской задолженности федерального бюджетного учреждения, превышение которого влечет расторжении трудового договора с руководителем федерального бюджетного учреждения по инициативе работодателя в соответствии с Трудовым кодексом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374D-61AD-4F27-840C-93F5B624B9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47840" y="856800"/>
            <a:ext cx="8324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й орган исполнительной власти, осуществляющий функции и полномочия учредителя федерального государственного учреждения такж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назначает (утверждает) руководителя федерального бюджетного учреждения и прекращает его полномоч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заключает и прекращает трудовой договор с руководителем федерального бюджетного учрежд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станавливает порядок определения платы для физических и юридических лиц за услуги (работы), относящиеся к основным видам деятельности федерального бюджетного учреждения, оказываемые им  сверх установленного государственного задания, а также в случаях, определенных федеральными законами, в пределах установленного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яет иные функции и полномочия учредителя, установленные федеральными законами и нормативными правовыми актами Президента Российской Федерации и Правительства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AC6F-CBF9-4193-9A16-86201540B4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ни функций и полномочий учредителя федерального государственного учреждения, осуществляемые в соответствии с требованиями, устанавливаемые Минфином Росс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3246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отчета о результатах  деятельности федерального бюджетного учреждения и об использовании закрепленного за ним федерального имуще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плана финансово-хозяйственной деятельности федерального бюджет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4380-6674-486C-B9D0-557778F1B6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8029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Решения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о функциям и полномочиям учредителя федерального государственного учреждения, связанные с недвижимым имуществом и денежными средствами принимаются федеральным органом исполнительной власти по согласовани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47840" y="3071520"/>
            <a:ext cx="832464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 Федеральным агентством по управлению государственным имуществом, за исключением федеральных бюджетных учреждений, находящихся в ведении Министерства обороны Российской Федерации, Управления делами Президента Российской Федерации и Федерального агентства морского и речного транспо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DAA-DFD8-449C-BC8B-877CCA0D04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9228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юджетный кодекс Российской Федерации (в ред. Закона № 83-ФЗ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тья 78.1. Предоставление субсидий некоммерческим организациям, не являющимся  казенными учрежд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 бюджетов бюджетной системы Российской Федерации могут предоставляться субсидии бюджетным и автономным учреждениям на ин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рядок определения объема и условия  предоставления указанных субсидий из федерального бюджета и бюджетов государственных внебюджетных фондов Российской Федерации, бюджетов субъектов Российской Федерации и бюджетов территориальных государственных внебюджетных фондов, местных бюджетов устанавливается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B7D4-175A-47D5-95FE-5C439F794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7888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47840" y="1357200"/>
            <a:ext cx="8324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становление вступит в силу с 1 января 2011 г.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 1 июня 2011 внести изменения в устав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52D-6791-43C0-9FC0-3854892E05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324000" y="549360"/>
            <a:ext cx="8656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6280"/>
            <a:ext cx="914400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тья 30 Федерального закона от 8 мая 2010 г. № 83-Ф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перации со средствам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поступающими федеральным бюджетным учреждениям, бюджетным учреждениям субъекта Российской Федерации, муниципальным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 в порядке, установленном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муниципального образования, учитываю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а отдельном лицевом счете бюджетного учреждени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6. Расходы бюджетных учреждений, источником финансового обеспечения которых являются средства, полученные бюджетными учреждениям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осуществляются после проверки документов, подтверждающих возникновение денежных обязательств, и соответствия содержания операции кодам классификации операций сектора государственного управления и целям предоставления субсиди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орядком санкционирования указанных расходов, установленным соответствующим финансовым органо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с учетом положений пункта 7 части 20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 использованные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текущем финансовом году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остатк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редств, предоставленных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лежат перечисл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бюджетными учреждениям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Остатки средств, перечисленные бюджетными учреждениями в соответствующий бюджет, могут быть возвращены бюджетным учреждениям в очередном финансовом году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аправлении их на те же цели в соответствии с решение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оответствующего главного распорядителя бюдже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A858-7F99-4D9D-8ABD-69474F4084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708280"/>
            <a:ext cx="7201080" cy="414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Book Antiqua"/>
              </a:rPr>
              <a:t>Лицевой счет, п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роверка расчетного документа (Заявки)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казанного в расчетном документе (Заявк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а (кодов) КОСГУ и кода субсидии  в Свед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ответствие указанного в расчетном документе (Заявке) кода КОСГУ, коду КОСГ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ому в Сведениях по соответствующему коду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соответствие указанных в расчетном документе и Заявке кодов КОСГ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ому назначению платежа, исходя из содержания текста назначения платежа,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и с утвержденным в установленном порядке Министерством финансов Россий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ции порядком применения бюджетной классификации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соответствие содержания операции по оплате денежных обязательств на поставки товар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, оказание услуг, аренды, исходя из документа-осн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у КОСГУ и содержанию текста назначения платежа, указанным в расчетном док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непревышение суммы в расчетном документе (Заявке) над суммой остатка соответствующ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ия расходов по коду КОСГУ и соответствующему коду субсид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тенным на лицевом сче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соответствие  информации, указанной в расчетном документе и Заявке, Свед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413000"/>
            <a:ext cx="237636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еде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989000"/>
            <a:ext cx="1584360" cy="144720"/>
          </a:xfrm>
          <a:prstGeom prst="rightArrow">
            <a:avLst>
              <a:gd name="adj1" fmla="val 50000"/>
              <a:gd name="adj2" fmla="val 27369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КР с у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кода субси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7932600" y="4820760"/>
            <a:ext cx="406440" cy="1079280"/>
          </a:xfrm>
          <a:prstGeom prst="downArrow">
            <a:avLst>
              <a:gd name="adj1" fmla="val 50000"/>
              <a:gd name="adj2" fmla="val 663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9360"/>
            <a:ext cx="88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хема осуществления санкционирования по целевым субсид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9640" y="0"/>
            <a:ext cx="6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14185"/>
                </a:solidFill>
                <a:latin typeface="Book Antiqua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052640"/>
            <a:ext cx="1513080" cy="15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(учреди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25360"/>
            <a:ext cx="5688000" cy="287640"/>
          </a:xfrm>
          <a:prstGeom prst="rightArrow">
            <a:avLst>
              <a:gd name="adj1" fmla="val 50000"/>
              <a:gd name="adj2" fmla="val 49436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80000" y="1773360"/>
            <a:ext cx="1944720" cy="142920"/>
          </a:xfrm>
          <a:prstGeom prst="rightArrow">
            <a:avLst>
              <a:gd name="adj1" fmla="val 50000"/>
              <a:gd name="adj2" fmla="val 3401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1125360"/>
            <a:ext cx="144144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80000" y="2205000"/>
            <a:ext cx="1944720" cy="287280"/>
          </a:xfrm>
          <a:prstGeom prst="rightArrow">
            <a:avLst>
              <a:gd name="adj1" fmla="val 50000"/>
              <a:gd name="adj2" fmla="val 16923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Расчетный докум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аявка на нали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40720" y="4437000"/>
            <a:ext cx="503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онтраг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090B-340B-4A75-A479-9613655CD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EB70-00E3-4FA4-BC89-C02369E974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79280" y="112536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98440" y="692280"/>
            <a:ext cx="884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Times New Roman"/>
                <a:ea typeface="Arial"/>
              </a:rPr>
              <a:t>Порядок взыскания неиспользованных остатков субсидий, предоставленных из федерального бюджета бюджетным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1280" y="1557360"/>
            <a:ext cx="8227800" cy="72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 1 января неиспользованные остатки целевых субсидий учитываются ОФК ка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ы без права расхо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8687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422100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ре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4005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5300640"/>
            <a:ext cx="10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1"/>
          <p:cNvSpPr/>
          <p:nvPr/>
        </p:nvSpPr>
        <p:spPr>
          <a:xfrm>
            <a:off x="3851280" y="5445000"/>
            <a:ext cx="2736720" cy="792360"/>
          </a:xfrm>
          <a:prstGeom prst="can">
            <a:avLst>
              <a:gd name="adj" fmla="val 15907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10800000"/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6587280" y="3715920"/>
            <a:ext cx="1018440" cy="1896120"/>
          </a:xfrm>
          <a:prstGeom prst="bentConnector3">
            <a:avLst>
              <a:gd name="adj1" fmla="val -224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885080" y="378936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4149720"/>
            <a:ext cx="1150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врат  остатков целевых субсидий, в которых отсутствует потребность (до 1 ию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284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285264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ведомление по взаимным рас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3577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1962000" cy="151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5950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360" y="378936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4365720"/>
            <a:ext cx="172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292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(Приложение к Плану ФХД до 1 июл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66100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зыскание после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5589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4F7-E293-4676-A0D3-7004DAFAF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23960" y="-219240"/>
            <a:ext cx="10593360" cy="729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2B2B-0588-4359-A581-DD8A4DFF2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719280" y="-174600"/>
            <a:ext cx="10582560" cy="72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A5D-0EF7-4BAE-ACD1-E79062275A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16000" y="2133720"/>
            <a:ext cx="7272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 постановления Правительств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О порядке осущест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едеральными органами исполнительной власти функций и полномочий учредителя федерального государственного учреж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13F5-4D96-4BA0-A496-A181EC472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Ф разработан с цель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9680" y="2286000"/>
            <a:ext cx="8325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положений Федерального закона от 8 мая 2010 г. № 83-ФЗ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истематизации и объединения норм федерального законодательства относительно осуществлении федеральными органами исполнительной власти функций и полномочий учредителя федеральных государственных учреждений всех типов в едином подзаконном нормативном правовом а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5E2C-029A-42D1-B326-D046FE774C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9945</cp:lastModifiedBy>
  <cp:lastPrinted>2009-06-02T16:42:35Z</cp:lastPrinted>
  <dcterms:modified xsi:type="dcterms:W3CDTF">2010-06-23T15:46:12Z</dcterms:modified>
  <cp:revision>1029</cp:revision>
  <dc:subject/>
  <dc:title>No Slide Title</dc:title>
</cp:coreProperties>
</file>